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86A-C05D-4CB8-83A7-B4025F6A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BED-38C2-4008-996E-4A53285D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42A-027A-4368-8A8B-1F9E4022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77E-41C1-43E7-9197-43E0DDBA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12C8-9E04-4523-9CD9-7E8C31E3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6A26-CD59-4D09-8C66-9F9EA548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B788-0D0D-4446-9A62-2397E484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B618-5372-4766-B2DE-4A48B2C9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2703-B4E2-4A2F-BF12-A82F26E1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B387-CFED-4BE8-AACE-DE28F04F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0C85-3D52-4121-902A-9EE7B58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4E5-FB9D-4DE9-9D9F-B60FAA5B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916-AE98-4133-9EC0-5150E4C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2375-3744-4929-8672-5366B53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5855-D7DC-49E4-BDBF-4A75E021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F842-F177-4FD4-8791-D08666E2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D0AF-C923-4C50-A938-8F9C6B00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6F0-E35C-4116-A5D0-1FFA5A06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7C2-B00A-48BB-9D9C-79875EBE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011-C23B-49BF-9C84-24FD836B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214-745C-4001-B8AC-1BB4FCB1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E1C-C87E-4D31-A48F-7BF45E6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2BA-42C2-4D74-8291-7E432663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4C3-1844-4D9F-9774-AA1C37F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08FF-9674-445F-94D9-8939AA77769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2275-1CF2-45FD-B2BC-D6B599E378A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Деятельностный подх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Деятельность учител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Деятельность ученик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Совместная деятельность всех заинтересованных сторон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Виды деятельност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85840" y="2631960"/>
            <a:ext cx="7703280" cy="1911600"/>
            <a:chOff x="1185840" y="2631960"/>
            <a:chExt cx="7703280" cy="1911600"/>
          </a:xfrm>
        </p:grpSpPr>
        <p:cxnSp>
          <p:nvCxnSpPr>
            <p:cNvPr id="103" name="_s20500"/>
            <p:cNvCxnSpPr>
              <a:stCxn id="104" idx="0"/>
              <a:endCxn id="105" idx="2"/>
            </p:cNvCxnSpPr>
            <p:nvPr/>
          </p:nvCxnSpPr>
          <p:spPr>
            <a:xfrm flipV="1">
              <a:off x="7711200" y="3774240"/>
              <a:ext cx="28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0498"/>
            <p:cNvCxnSpPr>
              <a:stCxn id="107" idx="0"/>
              <a:endCxn id="108" idx="2"/>
            </p:cNvCxnSpPr>
            <p:nvPr/>
          </p:nvCxnSpPr>
          <p:spPr>
            <a:xfrm flipH="1" flipV="1" rot="5400000">
              <a:off x="4924080" y="3887640"/>
              <a:ext cx="2293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20496"/>
            <p:cNvCxnSpPr>
              <a:stCxn id="110" idx="0"/>
              <a:endCxn id="111" idx="2"/>
            </p:cNvCxnSpPr>
            <p:nvPr/>
          </p:nvCxnSpPr>
          <p:spPr>
            <a:xfrm flipH="1" flipV="1" rot="5400000">
              <a:off x="2252880" y="3887640"/>
              <a:ext cx="2293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20494"/>
            <p:cNvCxnSpPr>
              <a:stCxn id="105" idx="0"/>
              <a:endCxn id="113" idx="2"/>
            </p:cNvCxnSpPr>
            <p:nvPr/>
          </p:nvCxnSpPr>
          <p:spPr>
            <a:xfrm flipV="1" rot="16200000">
              <a:off x="6260400" y="1866960"/>
              <a:ext cx="229320" cy="2671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493"/>
            <p:cNvCxnSpPr>
              <a:stCxn id="108" idx="0"/>
              <a:endCxn id="113" idx="2"/>
            </p:cNvCxnSpPr>
            <p:nvPr/>
          </p:nvCxnSpPr>
          <p:spPr>
            <a:xfrm flipV="1">
              <a:off x="5039280" y="3088440"/>
              <a:ext cx="252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0492"/>
            <p:cNvCxnSpPr>
              <a:stCxn id="111" idx="0"/>
              <a:endCxn id="113" idx="2"/>
            </p:cNvCxnSpPr>
            <p:nvPr/>
          </p:nvCxnSpPr>
          <p:spPr>
            <a:xfrm flipH="1" flipV="1" rot="5400000">
              <a:off x="3589560" y="1867320"/>
              <a:ext cx="229320" cy="2671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488"/>
            <p:cNvSpPr/>
            <p:nvPr/>
          </p:nvSpPr>
          <p:spPr>
            <a:xfrm>
              <a:off x="4109040" y="2631960"/>
              <a:ext cx="1859400" cy="4572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ahoma"/>
                </a:rPr>
                <a:t>Деятельнос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489"/>
            <p:cNvSpPr/>
            <p:nvPr/>
          </p:nvSpPr>
          <p:spPr>
            <a:xfrm>
              <a:off x="1437840" y="3317760"/>
              <a:ext cx="1859400" cy="4572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ahoma"/>
                </a:rPr>
                <a:t>Неосмыслен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490"/>
            <p:cNvSpPr/>
            <p:nvPr/>
          </p:nvSpPr>
          <p:spPr>
            <a:xfrm>
              <a:off x="4109040" y="3317760"/>
              <a:ext cx="1859400" cy="4572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ahoma"/>
                </a:rPr>
                <a:t>Осмыслен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20491"/>
            <p:cNvSpPr/>
            <p:nvPr/>
          </p:nvSpPr>
          <p:spPr>
            <a:xfrm>
              <a:off x="6780600" y="3317760"/>
              <a:ext cx="1859400" cy="4572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ahoma"/>
                </a:rPr>
                <a:t>Творческ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495"/>
            <p:cNvSpPr/>
            <p:nvPr/>
          </p:nvSpPr>
          <p:spPr>
            <a:xfrm>
              <a:off x="1185840" y="4003560"/>
              <a:ext cx="2360880" cy="5400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Например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отработка алгорит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497"/>
            <p:cNvSpPr/>
            <p:nvPr/>
          </p:nvSpPr>
          <p:spPr>
            <a:xfrm>
              <a:off x="3857040" y="4003560"/>
              <a:ext cx="2360880" cy="5400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Например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применение алгорит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20499"/>
            <p:cNvSpPr/>
            <p:nvPr/>
          </p:nvSpPr>
          <p:spPr>
            <a:xfrm>
              <a:off x="6528240" y="4003560"/>
              <a:ext cx="2360880" cy="5400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Например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создание алгорит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Деятельность учащих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ассив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мотр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луша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иш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вторя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ктив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иру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пониру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обща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следу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980640"/>
            <a:ext cx="7902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Исследовательская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деятельность при решении задач прикладного характер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озможности математи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зможности математ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81160" y="2660760"/>
            <a:ext cx="7805160" cy="1490400"/>
            <a:chOff x="1181160" y="2660760"/>
            <a:chExt cx="7805160" cy="1490400"/>
          </a:xfrm>
        </p:grpSpPr>
        <p:cxnSp>
          <p:nvCxnSpPr>
            <p:cNvPr id="123" name="_s1127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6311520" y="2071800"/>
              <a:ext cx="229320" cy="268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1276"/>
            <p:cNvCxnSpPr>
              <a:stCxn id="127" idx="0"/>
              <a:endCxn id="125" idx="2"/>
            </p:cNvCxnSpPr>
            <p:nvPr/>
          </p:nvCxnSpPr>
          <p:spPr>
            <a:xfrm flipV="1">
              <a:off x="5083920" y="3299760"/>
              <a:ext cx="252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1275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3627720" y="2072160"/>
              <a:ext cx="229320" cy="2684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1271"/>
            <p:cNvSpPr/>
            <p:nvPr/>
          </p:nvSpPr>
          <p:spPr>
            <a:xfrm>
              <a:off x="3739680" y="2660760"/>
              <a:ext cx="2687760" cy="6397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ahoma"/>
                </a:rPr>
                <a:t>Математика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1272"/>
            <p:cNvSpPr/>
            <p:nvPr/>
          </p:nvSpPr>
          <p:spPr>
            <a:xfrm>
              <a:off x="1181160" y="3529080"/>
              <a:ext cx="2436120" cy="6220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Tahoma"/>
                </a:rPr>
                <a:t>Внутренняя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11273"/>
            <p:cNvSpPr/>
            <p:nvPr/>
          </p:nvSpPr>
          <p:spPr>
            <a:xfrm>
              <a:off x="3865680" y="3529080"/>
              <a:ext cx="2436120" cy="6220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ahoma"/>
                </a:rPr>
                <a:t>Граничная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1274"/>
            <p:cNvSpPr/>
            <p:nvPr/>
          </p:nvSpPr>
          <p:spPr>
            <a:xfrm>
              <a:off x="6550200" y="3529080"/>
              <a:ext cx="2436120" cy="6220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Tahoma"/>
                </a:rPr>
                <a:t>Прикладная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зможности математ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205000"/>
            <a:ext cx="2787480" cy="158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аль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кт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4653000"/>
            <a:ext cx="2787480" cy="158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ктиче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581360"/>
            <a:ext cx="2787840" cy="158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ематиче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2205000"/>
            <a:ext cx="2787840" cy="158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емат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ктиче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90920" y="3068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3789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419280" y="54450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835280" y="3789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9256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892080"/>
            <a:ext cx="74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озможности математ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32000" y="-6267240"/>
            <a:ext cx="360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8064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зучение объе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исательное модел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атематическое модел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ыбор (или создание) метода решения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ешение задачи (возможно с использованием компьютер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нализ полученного реш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зможности математ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няется мир непрерывно, неспеш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няется всё – от концепций до сл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тот лишь сумеет остаться успешн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то сам вместе с миром меняться го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08-08-27T18:31:37Z</dcterms:modified>
  <cp:revision>3</cp:revision>
  <dc:subject/>
  <dc:title>PowerPoint Presentation</dc:title>
</cp:coreProperties>
</file>